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2D5-6BE4-49DB-895B-2A4A728A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963-8B5A-45DC-B656-8947A665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9C5-0779-41DF-9F26-5F1781C2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175-0FEE-418F-A225-DDF82670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0A5-0F73-459A-A4F1-EB6357AB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EDB-EB0E-4C70-A6D2-67102358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87E-1E17-4DC3-92FF-A0E8CB1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8CA-6A78-42C2-8581-0CB9F88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5CD-F425-46B6-A656-78FED257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8C7-A114-481E-A896-48399396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0F6-C2CC-45F9-BAD6-DADFF5C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B0E-6DAA-4968-AD6C-A295217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AF91-4A39-4EF2-A7F3-2C57466B92C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0"/>
            <a:ext cx="8713440" cy="6857640"/>
            <a:chOff x="179280" y="0"/>
            <a:chExt cx="8713440" cy="6857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6371" r="1909" b="24160"/>
            <a:stretch/>
          </p:blipFill>
          <p:spPr>
            <a:xfrm>
              <a:off x="179280" y="0"/>
              <a:ext cx="8713440" cy="68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18000" y="943560"/>
              <a:ext cx="3322080" cy="11235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2680" y="196200"/>
              <a:ext cx="3470040" cy="149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40440" y="5585400"/>
              <a:ext cx="3543840" cy="1272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95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附件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5:28:51Z</dcterms:created>
  <dc:creator>user</dc:creator>
  <dc:description/>
  <dc:language>en-US</dc:language>
  <cp:lastModifiedBy>user</cp:lastModifiedBy>
  <dcterms:modified xsi:type="dcterms:W3CDTF">2011-05-20T05:59:27Z</dcterms:modified>
  <cp:revision>4</cp:revision>
  <dc:subject/>
  <dc:title>投影片 1</dc:title>
</cp:coreProperties>
</file>